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EEB-AEB4-4868-B3B1-D199F2A5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C08-5010-4B3C-AA3C-1A6350B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08B-19E1-4081-9A40-423513AE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185-9753-49DF-9D8B-17BD01C3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B06-11DF-40E6-82AB-2249117E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7E6-6A99-4083-B88D-B517D01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54D-0FAE-4B96-8144-C7F0E4F4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83D-1270-4F0D-A049-DEF04ACE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E11-F7A6-402D-AF6E-4FBD1264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4E5-EC62-4A52-9685-7207A17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087-44C1-4816-9745-0D6ECC4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156-F485-47A9-AAA1-BD8E04BC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F69E-43E1-4F40-8CC7-29AB91A7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10-15 dec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52592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0:04:10Z</dcterms:modified>
  <cp:revision>1</cp:revision>
  <dc:subject/>
  <dc:title>Curs valutar</dc:title>
</cp:coreProperties>
</file>